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701-2CBC-439A-AE78-61B6BAE225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ave this slide up 30 minutes before the session star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ggest you make a point of welcoming people as they enter the room and encouraging them to do the audi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hing worse than silence.  A newbie is left wondering what the hell is going on.  Are they at the right place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A19D-969F-4F52-BF58-FC2FA71865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 really don’t dwell on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C7DA-1A2F-4E38-944D-F62FC57F8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ake time to explain this, in particular the 4 items coloured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et people to give you a smiley face. And/or raise their 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lso to type something in the chat window.  Practice is ideal as they can see what happen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E57-BE1F-4699-83D0-4E1C208B71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DC05-91AA-4CCB-A4B9-00627EB5A96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MPORTANT: Add the pins and icons to this graphic when in BbC.  See the notes about prparing a BbC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o NOT try to add them in powerpoint as users will not be able to m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 lets show some action.  Ask our remote particip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o drag a pin to where they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o some scribbling or typing on the whi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rag graph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nd add a greeting in the chat wind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46D-54B3-4E86-ABA0-61CB2E32EC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Quick clipart resour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sert tab, Clipart.  Use the search facilities, just keep the search si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sert tab,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oogle Images search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snipping tool in Windows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5E4-ED8B-402C-BFA4-12432B8307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reen dumps are easily done. In Windows 7 use the snipping tool in Access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therwise do an App share to demo th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You should always stive to have variety in your presentation. Slide after slide is called ‘death by powerpoint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app sharing, polls, whiteboard collaboration, web tour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519-BA2E-475A-B811-B419EA51F4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final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fear ques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f you don’t know the answer then say so. NEVER try to BS or fob off. Ask if others might k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7E6B-453C-47A6-979D-0043A8C861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if you need to explain the whiteboard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73D-AF6F-4946-90FD-AFD1DD515D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41A-0FC2-4943-A50F-01621F0B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9DB-5FF3-4D41-8591-BB800721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C21A2-D665-4FB7-BA66-B470684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ABD62-D7C7-41B3-B00E-8A009C2D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4A6AF-CF46-4A82-8457-75D355F6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BA7CE-5DCE-4268-8E1E-4F9BEB3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4DE23-D5A4-4310-BA6C-D3E2F1D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6CEB-79A9-4669-A83A-C96C4EA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71D10-0009-4A2B-961F-60BFE266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F6824-88C3-49E8-8380-3DE2D805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1D39B-BE64-4867-854C-C8860D33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D3ED-D0D0-4986-A04E-B92EF068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17F-8CBF-43E2-B785-7EA52B2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097AF-AE49-4F96-A62F-91D308F6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86005-5D16-49BD-9454-F1A38DA7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8A970-E5AF-4930-979E-1F9AE5C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EF367-21FE-41EC-A83E-15ED1E8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39A84-AD83-4AE1-93DB-06643DAA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0D286-34FB-4F00-B101-3073C07A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1CF95-03FC-4AAB-9D78-2009259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68360-D17F-4AA6-9A1B-0B66502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CF89A-6765-4D5D-943D-1AB5E15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15B3A-D27B-40F9-9D39-29CCADB5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6B1-8C91-49CB-9A4A-659D66E3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5EB4D-96E9-4A37-85A6-7362193D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66AE-AB21-440C-975F-824451C3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C0D8-A9AE-4F79-ABE2-E948D8C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8362-C479-43B1-96E0-B5B52AD9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D48FA-0569-44DE-924D-C6C08CC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DAC7-5983-494C-86A8-9001C68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1840F-2845-4572-82E9-225F034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0D66A-7E57-4A11-BEEA-72CF4070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F9E4B-620E-4B75-B653-A2A3B27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38A33-83F5-45BE-B386-12D307C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5EBF-3C91-47E4-8BF4-B0560AB4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1BB9B-BE56-4396-9882-46E9341F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2CC14-F1E6-4CDD-9E04-61F8622F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DD303-ECB1-4C1F-BDFB-310A62A3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808EA-807E-474D-8499-FD3C58FA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44157-1206-4F1A-973D-BFBDA85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64BCE-8F55-49B4-BFE3-8A6D987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C6CEF-CC4D-4318-B193-BD1667E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99F95-F020-4604-977C-7CFC899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44C67-1F24-44AC-884D-37866FB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370F3-201A-4046-88A3-C53747D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7005-D9D9-4006-8381-45593C4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23562-A50C-423A-81E6-D1D1574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77A28-065C-4DFA-B3A1-BEA66A6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9BA80-1EB4-4F8A-8CFF-01961A39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B939B-A3BB-436D-BCDD-2AB5C7BC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4F681-65E6-4226-822C-CF804138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34EA-56ED-46B7-9842-CBD94CD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9304-9C13-4BA2-962D-BC7B0E9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223D-FCC7-4D3D-A691-47293BFB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EED6-D1EF-4B73-96E4-7868100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8C62-45E7-4F5D-A1ED-1971140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3D5-2BB5-4F48-9510-7E5F9B6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183D-A507-4DFD-894C-A8739DC0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6249-765C-4130-83C7-FE7C48D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A1E-5C0B-4E58-891D-6B3AB4B7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4C31-B89D-4244-BDB7-6E76C521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54BC-ABA2-4C40-B853-67AB356D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7E00-6124-444C-BF1A-F7EF600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D489-6CCB-4678-A868-4EBD5CB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6FC7-AED0-40C4-BD5E-74F79518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9C78-A536-4590-8E72-FB706A9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8248-B90A-4FA7-BDC0-85CED7DE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256-4BF1-40E1-AC6B-9A51429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2D4A-202B-4428-803A-B2A3F32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6B69-8C46-4101-B875-EE3C7F5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DC51-90B5-42B3-98D8-FFC6A3C5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941D-BC46-467E-B5FB-8D96D082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F1BD-0C93-41C1-B8D0-69126994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C509-E773-4F2B-B950-DE6398BD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A620-1465-4238-AB76-A75FD974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3900-8B1B-4780-99BA-30536A0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EB0C-9989-4B45-AFBC-9C89C85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D346-B07E-40C8-BDCD-F6F2C85A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ACE-9919-4F22-8685-0647E6A7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B89C-CC0D-4813-9978-5AFF175F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F5DB-5FAE-4ACE-BA33-0B4C1697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C3C8-5D66-4E64-9ECA-0E670CD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9BD7-1D6A-4243-9C27-D22A66C0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5EC1-0B3A-4E3D-9277-B061898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CEF4-F5D7-40BD-BB87-A2B31D6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A567-251D-4E32-94F8-8D2169A4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1CE7-7725-4ECA-9D97-775D1EDD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49DB-9B5D-4312-A64D-18937AFB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ECE9-82D7-41DF-8C00-8027256D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18A-C756-4C38-8639-FEEE48C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7F1F-1AB2-4907-9E06-CE5FE15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9F3E9-8938-473E-88E6-F65A0699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91D0F-FDDA-44BC-B46C-E96D9DE8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734B-A16D-4F11-980B-67DE82AF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3F0AC-0E92-4022-B42E-145A6D64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0B5B-28FE-4E84-856F-52B4F62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2B78-BE55-48AC-9E94-E4E997E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0062-8822-4D65-B4E0-ACF5601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9923-170C-4889-952D-1D4FA18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C945-D252-4543-80C0-0D689F37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8AE-6675-483B-9CEB-C2223A15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FA03-D646-4212-8495-8F395CCE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78B6-4EB3-4A40-B7BA-6AD98D0D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BF8B5-E0AD-4F2F-9712-DD6ADD37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5D4A-D509-44A6-ADB1-0E79B448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5755-6B07-40D0-A956-EDA0201A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22C25-56B0-457C-A20F-06ADD992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3F18-E953-4577-92DB-8B7B6A6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61870-81B8-40F5-9458-55B9A96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146E-6260-40F6-BCEE-09B2497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91B25-BB19-4596-92D6-718C516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094-AFCE-40D5-B328-B5BB145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E6EA-CB1E-4990-B732-16DFB9E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405CB-17ED-4BF0-96ED-1AD8D774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BF9DD-2114-41B8-AE2A-744A9A26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4445-47A6-4535-A8CF-1A42BCE7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7599-D70A-4408-9EC8-2445BCF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F8536-F54C-4DC6-A593-E566A33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13386-0D9F-42C2-B4D1-41DD846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7C057-63DD-4498-8517-856C196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20715-3239-4D0B-9F36-490406F3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CFEA-65A8-47DF-99D5-2916497B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BA5-B00F-4A14-9085-878CBCC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AA08-32B7-42E9-A4F4-70C5001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6232-EC82-4A1C-97AF-B19497D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E265-ED8F-4710-9857-FD1785D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8B83-1BB1-4354-B49E-EA6F043D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8A65A-9B88-422F-80F1-D4163843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3C0E-931D-40B5-8210-718E02A1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5BC2-6968-45B4-BE52-FFE89D5D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B48C-4B4D-4110-8B3A-A233DD9D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D220-7DC7-472F-A768-66F83755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C6A9-E54C-4F86-A7C5-AD8F994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B4D-F2DF-4124-B644-38CCAE2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F723-8D09-4093-843F-7B282673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AAE57-416C-454E-93D2-9E0B8B4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277C4-ABE6-4C0D-9DF3-3E51ECD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A830A-84ED-4202-9213-9B9D857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7EC89-C10F-47C9-95DF-40BEBF0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4D0E7-B809-49EA-A125-CC86A872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D087-9E91-469C-B132-79959B41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E37FA-F3C5-4503-9C70-7303A54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173A-CA08-402B-8EC9-99831192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1FF76-51AA-462A-80EF-1CAFEF3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E7C-BE9C-433F-9F52-483619C034B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086-8C1A-4AF5-8B4A-CA8BEDF3E53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14BB-08CA-490C-B926-9BE1FD0EB0C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5F1F-F589-4C46-A18B-49F0C3F72F4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875-D41E-4ED9-BF4C-579D505AB7A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84E-8247-4AE2-ACA6-128A8526721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D1C1-A96E-4995-9B5A-CFF6D2CE7E5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B84-1078-4058-8365-2DB79F6364B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810-DF35-4E36-8622-8EE4AF3DAC2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052-E8ED-4838-B133-58081E3D606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E68-DC52-4B41-B6B8-DF13D57AEE7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460E-BADC-44C5-AFCD-C6C4AAE9D3D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560" y="110880"/>
            <a:ext cx="779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300" spc="-1" strike="noStrike">
                <a:solidFill>
                  <a:srgbClr val="572314"/>
                </a:solidFill>
                <a:latin typeface="Gill Sans MT"/>
              </a:rPr>
              <a:t>Before We Start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119700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ill Sans MT"/>
              </a:rPr>
              <a:t>Check your Audio:</a:t>
            </a:r>
            <a:br>
              <a:rPr sz="2400"/>
            </a:b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or menu: Tools / Audio/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Audio Setup Wizard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ill Sans MT"/>
              </a:rPr>
              <a:t>Problems? </a:t>
            </a: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heck list for audi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Are you plugged in the right way? And in the right hole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heck Audio is NOT muted (bottom right corner of windows)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s any in-line switch on your headphones OK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s any in-line volume control OK?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ill Sans MT"/>
              </a:rPr>
              <a:t>Know the Microphone butt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Your Mike is </a:t>
            </a: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OFF 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                      Your Mike is </a:t>
            </a: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Picture 12" descr=""/>
          <p:cNvPicPr/>
          <p:nvPr/>
        </p:nvPicPr>
        <p:blipFill>
          <a:blip r:embed="rId1"/>
          <a:stretch/>
        </p:blipFill>
        <p:spPr>
          <a:xfrm>
            <a:off x="4255920" y="1052640"/>
            <a:ext cx="4241880" cy="1512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3" descr=""/>
          <p:cNvPicPr/>
          <p:nvPr/>
        </p:nvPicPr>
        <p:blipFill>
          <a:blip r:embed="rId2"/>
          <a:stretch/>
        </p:blipFill>
        <p:spPr>
          <a:xfrm>
            <a:off x="1150920" y="5749920"/>
            <a:ext cx="2612880" cy="86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4" descr=""/>
          <p:cNvPicPr/>
          <p:nvPr/>
        </p:nvPicPr>
        <p:blipFill>
          <a:blip r:embed="rId3"/>
          <a:stretch/>
        </p:blipFill>
        <p:spPr>
          <a:xfrm>
            <a:off x="4967280" y="5753160"/>
            <a:ext cx="2643120" cy="81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5" descr=""/>
          <p:cNvPicPr/>
          <p:nvPr/>
        </p:nvPicPr>
        <p:blipFill>
          <a:blip r:embed="rId4"/>
          <a:stretch/>
        </p:blipFill>
        <p:spPr>
          <a:xfrm>
            <a:off x="7164360" y="115920"/>
            <a:ext cx="1700280" cy="674640"/>
          </a:xfrm>
          <a:prstGeom prst="rect">
            <a:avLst/>
          </a:prstGeom>
          <a:ln w="0">
            <a:noFill/>
          </a:ln>
        </p:spPr>
      </p:pic>
      <p:sp>
        <p:nvSpPr>
          <p:cNvPr id="571" name="Oval 15"/>
          <p:cNvSpPr/>
          <p:nvPr/>
        </p:nvSpPr>
        <p:spPr>
          <a:xfrm>
            <a:off x="6227640" y="5792760"/>
            <a:ext cx="743040" cy="73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Oval 25"/>
          <p:cNvSpPr/>
          <p:nvPr/>
        </p:nvSpPr>
        <p:spPr>
          <a:xfrm>
            <a:off x="7451640" y="1030320"/>
            <a:ext cx="743040" cy="73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573" name="Straight Arrow Connector 27"/>
          <p:cNvCxnSpPr/>
          <p:nvPr/>
        </p:nvCxnSpPr>
        <p:spPr>
          <a:xfrm flipV="1">
            <a:off x="4067280" y="1483920"/>
            <a:ext cx="3242160" cy="144720"/>
          </a:xfrm>
          <a:prstGeom prst="straightConnector1">
            <a:avLst/>
          </a:prstGeom>
          <a:ln w="38160">
            <a:solidFill>
              <a:srgbClr val="262626"/>
            </a:solidFill>
            <a:prstDash val="lg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920" y="1379160"/>
            <a:ext cx="74073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2314"/>
                </a:solidFill>
                <a:latin typeface="Gill Sans MT"/>
              </a:rPr>
              <a:t>The Name</a:t>
            </a:r>
            <a:br>
              <a:rPr sz="4400"/>
            </a:br>
            <a:r>
              <a:rPr b="0" lang="en-AU" sz="4400" spc="-1" strike="noStrike">
                <a:solidFill>
                  <a:srgbClr val="572314"/>
                </a:solidFill>
                <a:latin typeface="Gill Sans MT"/>
              </a:rPr>
              <a:t>of your</a:t>
            </a:r>
            <a:br>
              <a:rPr sz="4400"/>
            </a:br>
            <a:r>
              <a:rPr b="0" lang="en-AU" sz="4400" spc="-1" strike="noStrike">
                <a:solidFill>
                  <a:srgbClr val="572314"/>
                </a:solidFill>
                <a:latin typeface="Gill Sans MT"/>
              </a:rPr>
              <a:t>Presenta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095120" y="4221000"/>
            <a:ext cx="7407000" cy="109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Your Na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Your organisation,  role and / or kios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1116000" y="5318280"/>
            <a:ext cx="7846920" cy="1539720"/>
            <a:chOff x="1116000" y="5318280"/>
            <a:chExt cx="7846920" cy="1539720"/>
          </a:xfrm>
        </p:grpSpPr>
        <p:pic>
          <p:nvPicPr>
            <p:cNvPr id="577" name="Picture 17" descr="consortium logos.jpg"/>
            <p:cNvPicPr/>
            <p:nvPr/>
          </p:nvPicPr>
          <p:blipFill>
            <a:blip r:embed="rId1"/>
            <a:srcRect l="4435" t="0" r="0" b="0"/>
            <a:stretch/>
          </p:blipFill>
          <p:spPr>
            <a:xfrm>
              <a:off x="1116000" y="5318280"/>
              <a:ext cx="433368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M:\MktgPR\Andrea Teague\BFS Artwork\bfs_logo.JPG"/>
            <p:cNvPicPr/>
            <p:nvPr/>
          </p:nvPicPr>
          <p:blipFill>
            <a:blip r:embed="rId2"/>
            <a:stretch/>
          </p:blipFill>
          <p:spPr>
            <a:xfrm>
              <a:off x="6481440" y="5831640"/>
              <a:ext cx="2481480" cy="76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Picture 9" descr="BBFS-Banner.JPG"/>
          <p:cNvPicPr/>
          <p:nvPr/>
        </p:nvPicPr>
        <p:blipFill>
          <a:blip r:embed="rId3"/>
          <a:stretch/>
        </p:blipFill>
        <p:spPr>
          <a:xfrm>
            <a:off x="1258920" y="260280"/>
            <a:ext cx="72136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360600" y="639720"/>
            <a:ext cx="2506680" cy="6032520"/>
          </a:xfrm>
          <a:prstGeom prst="rect">
            <a:avLst/>
          </a:prstGeom>
          <a:ln w="0">
            <a:noFill/>
          </a:ln>
        </p:spPr>
      </p:pic>
      <p:sp>
        <p:nvSpPr>
          <p:cNvPr id="581" name="Rounded Rectangular Callout 3"/>
          <p:cNvSpPr/>
          <p:nvPr/>
        </p:nvSpPr>
        <p:spPr>
          <a:xfrm>
            <a:off x="1403280" y="684360"/>
            <a:ext cx="1584360" cy="576000"/>
          </a:xfrm>
          <a:prstGeom prst="wedgeRoundRectCallout">
            <a:avLst>
              <a:gd name="adj1" fmla="val 90305"/>
              <a:gd name="adj2" fmla="val 54981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Microphone  and speaker volume control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Rounded Rectangular Callout 5"/>
          <p:cNvSpPr/>
          <p:nvPr/>
        </p:nvSpPr>
        <p:spPr>
          <a:xfrm>
            <a:off x="1042920" y="1346040"/>
            <a:ext cx="1944720" cy="841680"/>
          </a:xfrm>
          <a:prstGeom prst="wedgeRoundRectCallout">
            <a:avLst>
              <a:gd name="adj1" fmla="val 96333"/>
              <a:gd name="adj2" fmla="val -33592"/>
              <a:gd name="adj3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Microphone, SINGLE click to talk, then SINGLE click again when finishe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Rounded Rectangular Callout 6"/>
          <p:cNvSpPr/>
          <p:nvPr/>
        </p:nvSpPr>
        <p:spPr>
          <a:xfrm>
            <a:off x="6156360" y="200160"/>
            <a:ext cx="1295280" cy="301320"/>
          </a:xfrm>
          <a:prstGeom prst="wedgeRoundRectCallout">
            <a:avLst>
              <a:gd name="adj1" fmla="val -108087"/>
              <a:gd name="adj2" fmla="val 250138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Audio Wizar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Rounded Rectangular Callout 7"/>
          <p:cNvSpPr/>
          <p:nvPr/>
        </p:nvSpPr>
        <p:spPr>
          <a:xfrm>
            <a:off x="6227640" y="1380960"/>
            <a:ext cx="1297080" cy="289080"/>
          </a:xfrm>
          <a:prstGeom prst="wedgeRoundRectCallout">
            <a:avLst>
              <a:gd name="adj1" fmla="val -111800"/>
              <a:gd name="adj2" fmla="val 2763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Video Preview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Rounded Rectangular Callout 8"/>
          <p:cNvSpPr/>
          <p:nvPr/>
        </p:nvSpPr>
        <p:spPr>
          <a:xfrm>
            <a:off x="6227640" y="836640"/>
            <a:ext cx="1297080" cy="453960"/>
          </a:xfrm>
          <a:prstGeom prst="wedgeRoundRectCallout">
            <a:avLst>
              <a:gd name="adj1" fmla="val -102773"/>
              <a:gd name="adj2" fmla="val 21314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Audio &amp; Video setting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Rounded Rectangular Callout 11"/>
          <p:cNvSpPr/>
          <p:nvPr/>
        </p:nvSpPr>
        <p:spPr>
          <a:xfrm>
            <a:off x="2050920" y="209520"/>
            <a:ext cx="1873440" cy="287280"/>
          </a:xfrm>
          <a:prstGeom prst="wedgeRoundRectCallout">
            <a:avLst>
              <a:gd name="adj1" fmla="val 39504"/>
              <a:gd name="adj2" fmla="val 265925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Expand /Contract Panel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Rounded Rectangular Callout 12"/>
          <p:cNvSpPr/>
          <p:nvPr/>
        </p:nvSpPr>
        <p:spPr>
          <a:xfrm>
            <a:off x="1787400" y="3048120"/>
            <a:ext cx="1311480" cy="431640"/>
          </a:xfrm>
          <a:prstGeom prst="wedgeRoundRectCallout">
            <a:avLst>
              <a:gd name="adj1" fmla="val 128828"/>
              <a:gd name="adj2" fmla="val -18781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Step away from the session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Rounded Rectangular Callout 13"/>
          <p:cNvSpPr/>
          <p:nvPr/>
        </p:nvSpPr>
        <p:spPr>
          <a:xfrm>
            <a:off x="1442880" y="2370240"/>
            <a:ext cx="1305000" cy="482400"/>
          </a:xfrm>
          <a:prstGeom prst="wedgeRoundRectCallout">
            <a:avLst>
              <a:gd name="adj1" fmla="val 123319"/>
              <a:gd name="adj2" fmla="val -38476"/>
              <a:gd name="adj3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Smileys &amp; Applaus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Rounded Rectangular Callout 14"/>
          <p:cNvSpPr/>
          <p:nvPr/>
        </p:nvSpPr>
        <p:spPr>
          <a:xfrm>
            <a:off x="6246720" y="1766880"/>
            <a:ext cx="2070360" cy="438120"/>
          </a:xfrm>
          <a:prstGeom prst="wedgeRoundRectCallout">
            <a:avLst>
              <a:gd name="adj1" fmla="val -84555"/>
              <a:gd name="adj2" fmla="val -34583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Global Participant  permission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4614840" y="1030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TextBox 16"/>
          <p:cNvSpPr/>
          <p:nvPr/>
        </p:nvSpPr>
        <p:spPr>
          <a:xfrm>
            <a:off x="6372360" y="4724280"/>
            <a:ext cx="1296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 </a:t>
            </a: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re ‘handles’ for dragging these panels to the desktop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TextBox 17"/>
          <p:cNvSpPr/>
          <p:nvPr/>
        </p:nvSpPr>
        <p:spPr>
          <a:xfrm>
            <a:off x="4614840" y="1684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TextBox 18"/>
          <p:cNvSpPr/>
          <p:nvPr/>
        </p:nvSpPr>
        <p:spPr>
          <a:xfrm>
            <a:off x="4716360" y="3892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Rounded Rectangular Callout 19"/>
          <p:cNvSpPr/>
          <p:nvPr/>
        </p:nvSpPr>
        <p:spPr>
          <a:xfrm>
            <a:off x="6227640" y="2343240"/>
            <a:ext cx="1278000" cy="293760"/>
          </a:xfrm>
          <a:prstGeom prst="wedgeRoundRectCallout">
            <a:avLst>
              <a:gd name="adj1" fmla="val -174013"/>
              <a:gd name="adj2" fmla="val -26412"/>
              <a:gd name="adj3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Rounded Rectangular Callout 20"/>
          <p:cNvSpPr/>
          <p:nvPr/>
        </p:nvSpPr>
        <p:spPr>
          <a:xfrm>
            <a:off x="3360600" y="3230640"/>
            <a:ext cx="1571760" cy="425520"/>
          </a:xfrm>
          <a:prstGeom prst="wedgeRoundRectCallout">
            <a:avLst>
              <a:gd name="adj1" fmla="val 12250"/>
              <a:gd name="adj2" fmla="val -235175"/>
              <a:gd name="adj3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Raise / </a:t>
            </a:r>
            <a:r>
              <a:rPr b="1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Lower</a:t>
            </a: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 Han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Rounded Rectangular Callout 23"/>
          <p:cNvSpPr/>
          <p:nvPr/>
        </p:nvSpPr>
        <p:spPr>
          <a:xfrm>
            <a:off x="6240600" y="2781360"/>
            <a:ext cx="2076480" cy="698400"/>
          </a:xfrm>
          <a:prstGeom prst="wedgeRoundRectCallout">
            <a:avLst>
              <a:gd name="adj1" fmla="val -95837"/>
              <a:gd name="adj2" fmla="val -43837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Click here (or right click) to alter participant permissions </a:t>
            </a:r>
            <a:br>
              <a:rPr sz="1100"/>
            </a:b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or your profile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Rounded Rectangular Callout 24"/>
          <p:cNvSpPr/>
          <p:nvPr/>
        </p:nvSpPr>
        <p:spPr>
          <a:xfrm>
            <a:off x="1187280" y="5186520"/>
            <a:ext cx="1903680" cy="690480"/>
          </a:xfrm>
          <a:prstGeom prst="wedgeRoundRectCallout">
            <a:avLst>
              <a:gd name="adj1" fmla="val 85430"/>
              <a:gd name="adj2" fmla="val 59560"/>
              <a:gd name="adj3" fmla="val 16667"/>
            </a:avLst>
          </a:prstGeom>
          <a:solidFill>
            <a:srgbClr val="99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Type your chat message here then push the ‘Enter ‘ key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Rounded Rectangular Callout 25"/>
          <p:cNvSpPr/>
          <p:nvPr/>
        </p:nvSpPr>
        <p:spPr>
          <a:xfrm>
            <a:off x="1617840" y="6021360"/>
            <a:ext cx="1473120" cy="503280"/>
          </a:xfrm>
          <a:prstGeom prst="wedgeRoundRectCallout">
            <a:avLst>
              <a:gd name="adj1" fmla="val 90958"/>
              <a:gd name="adj2" fmla="val 6189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Who your message goes to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Rounded Rectangular Callout 26"/>
          <p:cNvSpPr/>
          <p:nvPr/>
        </p:nvSpPr>
        <p:spPr>
          <a:xfrm>
            <a:off x="6246720" y="3656160"/>
            <a:ext cx="1278000" cy="293400"/>
          </a:xfrm>
          <a:prstGeom prst="wedgeRoundRectCallout">
            <a:avLst>
              <a:gd name="adj1" fmla="val -127865"/>
              <a:gd name="adj2" fmla="val -104055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Participants panel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Rounded Rectangular Callout 27"/>
          <p:cNvSpPr/>
          <p:nvPr/>
        </p:nvSpPr>
        <p:spPr>
          <a:xfrm>
            <a:off x="4284720" y="212760"/>
            <a:ext cx="1295280" cy="288720"/>
          </a:xfrm>
          <a:prstGeom prst="wedgeRoundRectCallout">
            <a:avLst>
              <a:gd name="adj1" fmla="val 518"/>
              <a:gd name="adj2" fmla="val 391240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Transmit Video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Rounded Rectangular Callout 29"/>
          <p:cNvSpPr/>
          <p:nvPr/>
        </p:nvSpPr>
        <p:spPr>
          <a:xfrm>
            <a:off x="6246720" y="4114800"/>
            <a:ext cx="1278000" cy="293760"/>
          </a:xfrm>
          <a:prstGeom prst="wedgeRoundRectCallout">
            <a:avLst>
              <a:gd name="adj1" fmla="val -102439"/>
              <a:gd name="adj2" fmla="val -79537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Chat setting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Rounded Rectangular Callout 30"/>
          <p:cNvSpPr/>
          <p:nvPr/>
        </p:nvSpPr>
        <p:spPr>
          <a:xfrm>
            <a:off x="1692360" y="4581360"/>
            <a:ext cx="1295280" cy="395280"/>
          </a:xfrm>
          <a:prstGeom prst="wedgeRoundRectCallout">
            <a:avLst>
              <a:gd name="adj1" fmla="val 141703"/>
              <a:gd name="adj2" fmla="val 15300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Chat panel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TextBox 15"/>
          <p:cNvSpPr/>
          <p:nvPr/>
        </p:nvSpPr>
        <p:spPr>
          <a:xfrm>
            <a:off x="6151680" y="589608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Blackboard Collaborate</a:t>
            </a: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7" descr="C:\Users\Keith\AppData\Local\Microsoft\Windows\Temporary Internet Files\Content.IE5\BHE8NFCV\MC900013464[1].wmf"/>
          <p:cNvPicPr/>
          <p:nvPr/>
        </p:nvPicPr>
        <p:blipFill>
          <a:blip r:embed="rId1"/>
          <a:stretch/>
        </p:blipFill>
        <p:spPr>
          <a:xfrm rot="168000">
            <a:off x="1393920" y="399960"/>
            <a:ext cx="6197400" cy="563724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0160" y="115920"/>
            <a:ext cx="4970520" cy="100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Drag an icon to your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603360" y="6210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Then type your location &amp; a greeting in the Chat Windo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hunk 1 of your sho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ullet po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Keep them short and si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hey should SUMMARIZE your key po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pice it up with a simple graphic that is relevant to the point you are mak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Keep your slides consistent. In the slide sorter pane, right click the slide and select ‘duplicate slide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Picture 5" descr="http://mondaybynoon.com/images/logo-google-docs.png"/>
          <p:cNvPicPr/>
          <p:nvPr/>
        </p:nvPicPr>
        <p:blipFill>
          <a:blip r:embed="rId1"/>
          <a:stretch/>
        </p:blipFill>
        <p:spPr>
          <a:xfrm>
            <a:off x="7236000" y="26028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" descr="http://cloudtimes.org/wp-content/uploads/2012/04/google-drive.jpeg"/>
          <p:cNvPicPr/>
          <p:nvPr/>
        </p:nvPicPr>
        <p:blipFill>
          <a:blip r:embed="rId1"/>
          <a:stretch/>
        </p:blipFill>
        <p:spPr>
          <a:xfrm>
            <a:off x="6259680" y="3225960"/>
            <a:ext cx="2619360" cy="2619360"/>
          </a:xfrm>
          <a:prstGeom prst="rect">
            <a:avLst/>
          </a:prstGeom>
          <a:ln w="0">
            <a:noFill/>
          </a:ln>
        </p:spPr>
      </p:pic>
      <p:sp>
        <p:nvSpPr>
          <p:cNvPr id="611" name="laptop"/>
          <p:cNvSpPr/>
          <p:nvPr/>
        </p:nvSpPr>
        <p:spPr>
          <a:xfrm>
            <a:off x="971640" y="4005360"/>
            <a:ext cx="3600360" cy="2663640"/>
          </a:xfrm>
          <a:custGeom>
            <a:avLst/>
            <a:gdLst>
              <a:gd name="textAreaLeft" fmla="*/ 740880 w 3600360"/>
              <a:gd name="textAreaRight" fmla="*/ 2885400 w 3600360"/>
              <a:gd name="textAreaTop" fmla="*/ 228960 h 2663640"/>
              <a:gd name="textAreaBottom" fmla="*/ 1519560 h 266364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3929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hunk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331640"/>
            <a:ext cx="749952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elow is an easily made graph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se the KISS principle (Keep It Simple Stupi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se one to reinforce your wo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Left-Right Arrow 9"/>
          <p:cNvSpPr/>
          <p:nvPr/>
        </p:nvSpPr>
        <p:spPr>
          <a:xfrm rot="21066600">
            <a:off x="3457440" y="4724280"/>
            <a:ext cx="2770200" cy="61272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c58d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TextBox 10"/>
          <p:cNvSpPr/>
          <p:nvPr/>
        </p:nvSpPr>
        <p:spPr>
          <a:xfrm rot="21035400">
            <a:off x="4103280" y="42822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Synchroni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2"/>
          <a:stretch/>
        </p:blipFill>
        <p:spPr>
          <a:xfrm>
            <a:off x="2085840" y="4205160"/>
            <a:ext cx="1371600" cy="2071800"/>
          </a:xfrm>
          <a:prstGeom prst="rect">
            <a:avLst/>
          </a:prstGeom>
          <a:ln w="0">
            <a:noFill/>
          </a:ln>
        </p:spPr>
      </p:pic>
      <p:sp>
        <p:nvSpPr>
          <p:cNvPr id="617" name="TextBox 11"/>
          <p:cNvSpPr/>
          <p:nvPr/>
        </p:nvSpPr>
        <p:spPr>
          <a:xfrm>
            <a:off x="5724360" y="609912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Any Internet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Left-Right Arrow 14"/>
          <p:cNvSpPr/>
          <p:nvPr/>
        </p:nvSpPr>
        <p:spPr>
          <a:xfrm rot="16969800">
            <a:off x="6737040" y="5427720"/>
            <a:ext cx="847440" cy="50472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9d77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9" name="Picture 7" descr="https://encrypted-tbn2.gstatic.com/images?q=tbn:ANd9GcTGBpe7QHrYm2yYrdb8GvfOii70ppdMBqVYbzenE10NkvkT29WT"/>
          <p:cNvPicPr/>
          <p:nvPr/>
        </p:nvPicPr>
        <p:blipFill>
          <a:blip r:embed="rId3"/>
          <a:stretch/>
        </p:blipFill>
        <p:spPr>
          <a:xfrm>
            <a:off x="7331040" y="26028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98360" y="260280"/>
            <a:ext cx="8945640" cy="6292800"/>
          </a:xfrm>
          <a:prstGeom prst="rect">
            <a:avLst/>
          </a:prstGeom>
          <a:ln w="0">
            <a:noFill/>
          </a:ln>
        </p:spPr>
      </p:pic>
      <p:sp>
        <p:nvSpPr>
          <p:cNvPr id="621" name="Oval 4"/>
          <p:cNvSpPr/>
          <p:nvPr/>
        </p:nvSpPr>
        <p:spPr>
          <a:xfrm>
            <a:off x="198360" y="3946680"/>
            <a:ext cx="250200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49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Comment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Future Session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Moderator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Bank Accounts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300" spc="-1" strike="noStrike">
                <a:solidFill>
                  <a:srgbClr val="572314"/>
                </a:solidFill>
                <a:latin typeface="Gill Sans MT"/>
              </a:rPr>
              <a:t>Whiteboard To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19987" t="3380" r="19987" b="3156"/>
          <a:stretch/>
        </p:blipFill>
        <p:spPr>
          <a:xfrm>
            <a:off x="304920" y="731880"/>
            <a:ext cx="685800" cy="548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1905120" y="4606920"/>
            <a:ext cx="6676920" cy="2098800"/>
          </a:xfrm>
          <a:prstGeom prst="rect">
            <a:avLst/>
          </a:prstGeom>
          <a:ln w="0">
            <a:noFill/>
          </a:ln>
        </p:spPr>
      </p:pic>
      <p:cxnSp>
        <p:nvCxnSpPr>
          <p:cNvPr id="626" name="Straight Arrow Connector 4"/>
          <p:cNvCxnSpPr/>
          <p:nvPr/>
        </p:nvCxnSpPr>
        <p:spPr>
          <a:xfrm flipV="1">
            <a:off x="838080" y="5409720"/>
            <a:ext cx="1067760" cy="24696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627" name="Rounded Rectangular Callout 5"/>
          <p:cNvSpPr/>
          <p:nvPr/>
        </p:nvSpPr>
        <p:spPr>
          <a:xfrm>
            <a:off x="1905120" y="1096920"/>
            <a:ext cx="3352680" cy="609480"/>
          </a:xfrm>
          <a:prstGeom prst="wedgeRoundRectCallout">
            <a:avLst>
              <a:gd name="adj1" fmla="val -78592"/>
              <a:gd name="adj2" fmla="val -5907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Pointer Tool (Defaul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Rounded Rectangular Callout 9"/>
          <p:cNvSpPr/>
          <p:nvPr/>
        </p:nvSpPr>
        <p:spPr>
          <a:xfrm>
            <a:off x="1965240" y="3657600"/>
            <a:ext cx="2470320" cy="792000"/>
          </a:xfrm>
          <a:prstGeom prst="wedgeRoundRectCallout">
            <a:avLst>
              <a:gd name="adj1" fmla="val -94245"/>
              <a:gd name="adj2" fmla="val -50333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riangle indicates more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Rounded Rectangular Callout 10"/>
          <p:cNvSpPr/>
          <p:nvPr/>
        </p:nvSpPr>
        <p:spPr>
          <a:xfrm>
            <a:off x="5288040" y="3521160"/>
            <a:ext cx="3019320" cy="928440"/>
          </a:xfrm>
          <a:prstGeom prst="wedgeRoundRectCallout">
            <a:avLst>
              <a:gd name="adj1" fmla="val -37472"/>
              <a:gd name="adj2" fmla="val 126782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abs group clipart. You can add your 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2362320" y="-1371600"/>
            <a:ext cx="6324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Gill Sans MT"/>
              </a:rPr>
              <a:t>Whiteboard Too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Rounded Rectangular Callout 12"/>
          <p:cNvSpPr/>
          <p:nvPr/>
        </p:nvSpPr>
        <p:spPr>
          <a:xfrm>
            <a:off x="6095880" y="1173240"/>
            <a:ext cx="2819520" cy="731880"/>
          </a:xfrm>
          <a:prstGeom prst="wedgeRoundRectCallout">
            <a:avLst>
              <a:gd name="adj1" fmla="val -17282"/>
              <a:gd name="adj2" fmla="val 8750"/>
              <a:gd name="adj3" fmla="val 16667"/>
            </a:avLst>
          </a:prstGeom>
          <a:solidFill>
            <a:srgbClr val="b0bad7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Hover for a Tool T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3"/>
          <a:stretch/>
        </p:blipFill>
        <p:spPr>
          <a:xfrm>
            <a:off x="863640" y="2743200"/>
            <a:ext cx="507960" cy="492120"/>
          </a:xfrm>
          <a:prstGeom prst="rect">
            <a:avLst/>
          </a:prstGeom>
          <a:ln w="0">
            <a:noFill/>
          </a:ln>
        </p:spPr>
      </p:pic>
      <p:sp>
        <p:nvSpPr>
          <p:cNvPr id="633" name="Rounded Rectangular Callout 8"/>
          <p:cNvSpPr/>
          <p:nvPr/>
        </p:nvSpPr>
        <p:spPr>
          <a:xfrm>
            <a:off x="1951200" y="1905120"/>
            <a:ext cx="3840120" cy="511200"/>
          </a:xfrm>
          <a:prstGeom prst="wedgeRoundRectCallout">
            <a:avLst>
              <a:gd name="adj1" fmla="val -81819"/>
              <a:gd name="adj2" fmla="val 124203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xt Box. Just keep typ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Rounded Rectangular Callout 14"/>
          <p:cNvSpPr/>
          <p:nvPr/>
        </p:nvSpPr>
        <p:spPr>
          <a:xfrm>
            <a:off x="1965240" y="2751120"/>
            <a:ext cx="4527720" cy="509760"/>
          </a:xfrm>
          <a:prstGeom prst="wedgeRoundRectCallout">
            <a:avLst>
              <a:gd name="adj1" fmla="val -64912"/>
              <a:gd name="adj2" fmla="val 1814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xt Tool. Push Enter for new 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54:40Z</dcterms:created>
  <dc:creator>Keith</dc:creator>
  <dc:description/>
  <dc:language>en-US</dc:language>
  <cp:lastModifiedBy>Keith</cp:lastModifiedBy>
  <dcterms:modified xsi:type="dcterms:W3CDTF">2013-01-20T12:01:40Z</dcterms:modified>
  <cp:revision>97</cp:revision>
  <dc:subject/>
  <dc:title>A One Eyed Google Fan  Reveals All</dc:title>
</cp:coreProperties>
</file>